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9200" y="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712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9200" y="944712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9B8B08A-66C7-45F3-A909-5EEAD07042D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ástupný symbol pro číslo snímku 3"/>
          <p:cNvSpPr/>
          <p:nvPr/>
        </p:nvSpPr>
        <p:spPr>
          <a:xfrm>
            <a:off x="3859200" y="944712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84B8CBF-002F-4DC8-8075-F2EF2C5F90B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0194-70AE-4AB8-903B-21BE86467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1184-9502-4082-A8FA-7F4C804A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2AB6-5F7A-4ACC-BE94-D52D483B1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064D-3F70-4F46-AF91-2A73C91AE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4FF8-000F-4841-81ED-5109AC46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0998-3E51-4B7D-B288-5D21F97A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09D7-06D8-4FA4-A606-B77E498F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8B0B-CA48-4E23-9C8E-11947FD6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2760-242B-4C60-B3AD-B2D0FCF8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F8C4-E2D7-483E-B998-70DA6157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D066-7BBE-4044-AA76-2224E215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62EC-A21E-4D6F-83F5-C084E715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DE26-F792-4D7F-958B-A71925E606F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podpora34-51@ea-oplzz.cz" TargetMode="External"/><Relationship Id="rId2" Type="http://schemas.openxmlformats.org/officeDocument/2006/relationships/hyperlink" Target="mailto:podpora34-51@ea-oplzz.cz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Veřejná podpora - de minim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Omezení v provádění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nepodstatných změn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, že položky rozpočtu, připadají na různé subjekty nebo se podíl veřejné podpory u jednotlivých subjektů liší, není možné finanční prostředky mezi položkami rozpočtu převádě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ošlo by ke změně výše podpory de minimis, která byla subjektům přiděl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ěkujeme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</a:rPr>
              <a:t>Externí administrá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email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: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dpora34-51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ea-oplzz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d2d8a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tel.: +420 225 044 111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</a:rPr>
              <a:t>Řídící orgán OP 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Ministerstvo práce a sociálních věcí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Odbor řízení pomoci z E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a Poříčním právu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128 01 Prah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e minimis pro třetí subjekty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Je nutné rozlišov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1131c"/>
                </a:solidFill>
                <a:uFillTx/>
                <a:latin typeface="Arial"/>
              </a:rPr>
              <a:t>příjemce dotace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– subjekt, kterému byla přiznána dota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1131c"/>
                </a:solidFill>
                <a:uFillTx/>
                <a:latin typeface="Arial"/>
              </a:rPr>
              <a:t>příjemce veřejné podpory/podpory de minimis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– subjekt, u kterého budou vytvořena pracovní místa s čerpáním mzdových příspěvků, umisťovány osoby na volná pracovní místa s čerpáním mzdových příspěvků, poskytovány služby péče o děti, poradenství a vzdělávání včetně genderových a rodinných auditů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e minimis pro třetí subjekty II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zhledem k tomu, že řada žadatelů v okamžiku vydání právního aktu ještě neví přesně, u kterých subjektů budou výše uvedené činnosti probíhat, a kdo tedy bude příjemcem podpory de minimis, nebude podpora de minimis jednotlivým subjektům před podpisem právního aktu, ale až v průběhu realizace projekt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íjemce dotace má v právním aktu přidělenu souhrnnou částku určenou na podporu de minimis, která bude v průběhu projektu rozdělena mezi další subjekty. Může se jednat o zaměstnavatele využívající výše uvedené služby (pracovní místa, zaměstnání osob na volných pracovních místech s čerpáním mzdových příspěvků, služby péče o děti či poradenství a vzdělávání včetně genderových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rodinných auditů) nebo OSVČ, které se v rámci projektu účastní vzdělávání a poradenstv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Žádost o přidělení podpory 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íjemce dotace je povinen předložit vyhlašovateli výzvy nejpozději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1 měsíc (u OSVČ 10 pracovních dní)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d poskytnutím některé z výše uvedených služeb následující podkla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spcBef>
                <a:spcPts val="11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Žádost o přidělení podpory de minimis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o jednotlivé subjekty na předepsaném formuláři. Pro každý subjekt je potřeba vyplnit samostatný formulá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tvrzení o účetním období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dnotlivých subjektů, kterým má být poskytnuta podpora de minim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očet  de- minimis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Pro každý subjekt je potřeba vyplnit  samostatný sloup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Formuláře jsou zveřejněny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fcr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u výzvy 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okumenty zaslat v listinné i elektronické podob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Oznámení o přidělení podpory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dložené dokumenty vyhlašovatel výzvy posoudí a písemně oznámí příjemci dotace, zda a v jaké výši jim byla jednotlivým subjektům poskytnuta podpora de minim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základě tohoto oznámení se dané subjekty stávají příjemci podpory de minim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še podpory je pro daný subjekt zanesena do centrálního registru podpory de minimis provozovaného Ministerstvem zemědělstv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 důvodu centrální evidence není možné žádat o přidělení podpory de minimis průběžně několikrát za dobu realizace projektu pro jeden a tentýž subjekt. Pro každý subjekt je nutné žádat jednorázově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měna příjemce 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=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ŽÁDOST O PODSTATNOU ZMĚ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v průběhu realizace projektu nastane změna příjemce podpory de minimis, je povinností příjemce dotace požádat poskytovatele dotace o podstatnou změnu projektu na standardním formuláři žádosti o podstatnou změn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ároveň je nutné zaslat žádost o přidělení podpory de minimis nově zapojenému subjektu a čestné prohlášení o jeho účetním obdob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 rozdělené VP na začátku realizace projektu, nelze v průběhu projektu zapojovat další projekty. Je možné vyměnit jeden subjekt za jiný, v případě, že by původní subjekt chtěl z projektu odstoup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Odstoupení příjemce 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kud příjemce de minimis z projektu odstoupí nebo předčasně ukončí účast, zůstane jemu přidělená částka de minimis nedočerpá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tomto případě je nutné přiznanou výši de minimis snížit v registru de minimis. Příjemce de minimis musí vyhlašovateli výzvy zaslat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ísemnou žádost o snížení přiznané de minimis + čestné prohlášení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(formu ponecháváme na příjemci), že přiznanou de minimis skutečně nevyčerpá.  Vyhlašovatel výzvy na základě této žádosti zašle oznámení, že u daného subjektu de minimis snižujeme (případně rušíme) a v návaznosti </a:t>
            </a:r>
            <a:br>
              <a:rPr sz="2400"/>
            </a:b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na to bude upravena její výši i v registru de minim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ohoda příjemce dotace s příjemcem podpory 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příjemce dotace proplácí mzdové příspěvky třetí osobě (zapojenému subjektu), je povinen uzavřít s ním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dohodu o příspěv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ohoda musí obsahovat ustanovení, že zapojený subjekt je povinen vytvořit podmínky k provedení kontroly vztahující se k čerpání mzdových příspěvků, poskytnout oprávněným osobám veškeré doklady vážící se k čerpání mzdových příspěvků a poskytnout součinnost všem osobám oprávněným k provádění kontroly (Řídící orgán, územní finanční orgány, Ministerstvo financí, Nejvyšší kontrolní úřad, Evropská komise a Evropský účetní dvůr, případně další orgány oprávněné k výkonu kontrol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Omezení v provádění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nepodstatných změn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eřejnou podporu nelze navyšovat!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možnost převádět finanční prostředky z položek, které nespadají do režimu podpory de minimis (01) na položky označené podporou de minimis (0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pačná změna – převod finančních prostředků z položek s podporou de minimis (02) do položek, které nespadají do režimu podpory de minimis (01) možná je, ale pouze za předpokladu, že částka podpory nebude vyčerpá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vod mezi položkami, které spadají do podpory de minimis je možná, ale pouze za předpokladu, že nedojde k narušení původního rozdělení podpory mezi zapojené subjekty. Při převodu dojde pouze k přesunu veřejné podpory mezi jednou položkou do druhé, ale nedojde ke změně podílu podpory de mini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Kristyna Novotna</dc:creator>
  <dc:description/>
  <dc:language>en-US</dc:language>
  <cp:lastModifiedBy>Eliška</cp:lastModifiedBy>
  <dcterms:modified xsi:type="dcterms:W3CDTF">2012-12-07T09:34:28Z</dcterms:modified>
  <cp:revision>366</cp:revision>
  <dc:subject/>
  <dc:title>PM část</dc:title>
</cp:coreProperties>
</file>